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783-B858-489B-9349-F99151A6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012-5DF7-4E25-8478-3CDA1859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8BF-C81B-43E5-9916-67B2765E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B00-B3E5-4893-AA6F-B92332A6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492-BF73-4328-998E-A4C3860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14B-BE9C-4AC2-9DA2-A568D5EA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74C-CAC8-4F47-8D77-E5240A7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FBF-BF4A-46A1-994B-D5526F3B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CBF-23E7-46D5-8841-65DA888B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8B2-6490-4326-8465-692AE1A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063-AB6D-446B-B0C3-DFD8BBC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0D7-AAEB-4D2A-A674-EB40266C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048B-CC6B-405F-A855-66D5A545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кция №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а Баз Данн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ассмотреть разновидности топологий, с помощью которых функционируют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тектура клиент-сер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3141720"/>
            <a:ext cx="1800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3357720"/>
            <a:ext cx="14414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4149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524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вер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916280"/>
            <a:ext cx="23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1655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645000"/>
            <a:ext cx="2520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16280"/>
            <a:ext cx="1655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940280"/>
            <a:ext cx="2519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4720" y="5013360"/>
            <a:ext cx="1655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3213000"/>
            <a:ext cx="158436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7" idx="3"/>
            <a:endCxn id="103" idx="0"/>
          </p:cNvCxnSpPr>
          <p:nvPr/>
        </p:nvCxnSpPr>
        <p:spPr>
          <a:xfrm>
            <a:off x="3347640" y="2420640"/>
            <a:ext cx="2304360" cy="778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4121640" y="20811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3"/>
          </p:cNvCxnSpPr>
          <p:nvPr/>
        </p:nvCxnSpPr>
        <p:spPr>
          <a:xfrm flipV="1">
            <a:off x="3492000" y="3933360"/>
            <a:ext cx="1296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7" name=""/>
          <p:cNvCxnSpPr>
            <a:stCxn id="101" idx="3"/>
            <a:endCxn id="103" idx="2"/>
          </p:cNvCxnSpPr>
          <p:nvPr/>
        </p:nvCxnSpPr>
        <p:spPr>
          <a:xfrm flipV="1">
            <a:off x="3419640" y="4667040"/>
            <a:ext cx="2232720" cy="778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834720" y="50324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72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>
            <a:off x="6443640" y="3644640"/>
            <a:ext cx="434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5724360" y="4724280"/>
            <a:ext cx="1943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 клиент-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ер БД, который является СУБД и управляет хранением данных, доступом, защитой, резервным копированием, отслеживает целостность и непротиворечивость кли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енты - представляют собой различные приложения пользователей и выполняющие запросы к серв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ь и коммуникационное программное обеспечение, осуществляющее взаимодействие между клиентом и сервером с помощью сетевых проток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сервер находится отдельно от клиента, его так же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даленным серв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понят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иент-серверной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ссылочной целостности данных и контроль завершения транза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сылочная целостность данных – это система и набор специальных правил, обеспечивающих единство связан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нимые процедуры – набор действий, который хранится на сервере, причем программы клиенты способны их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ггеры   - вид хранимых процедур. Они связаны с событиями, и запускаются автоматически как только на сервере БД происходит определенное 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о – тип триггера, который проверяет данные до внесения в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стоинства архитектур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лиент-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ение нагрузки на сеть, поскольку теперь в ней циркулирует только нуж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е безопасности информации, связанное с тем, что обработка запросов всех клиентов выполняется единой программой, расположенной на сервере. Сервер устанавливает общие для всех пользователей правила использования БД, управляет режимами доступа клиентов к данным, за­прещая, в частности, одновременное изменение одной записи различными пользов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ьшение сложности клиентских приложений за счет отсутствия в них кода, связанного с контролем БД и разграничением доступа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задачи системного администратора Б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та Б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держание целостности Б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чение и подготовка пользов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грузка данных из других Б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ирование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ервное копирование и восстанов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сение изменений в информацион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хуровневая архитектура клиент-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4508640"/>
            <a:ext cx="1800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4724280"/>
            <a:ext cx="1441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149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5088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вер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916280"/>
            <a:ext cx="23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989000"/>
            <a:ext cx="216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-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645000"/>
            <a:ext cx="2521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3716280"/>
            <a:ext cx="2303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-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940280"/>
            <a:ext cx="2519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4720" y="5013360"/>
            <a:ext cx="21589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-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2708280"/>
            <a:ext cx="14396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6" idx="3"/>
            <a:endCxn id="132" idx="0"/>
          </p:cNvCxnSpPr>
          <p:nvPr/>
        </p:nvCxnSpPr>
        <p:spPr>
          <a:xfrm>
            <a:off x="3347640" y="2421000"/>
            <a:ext cx="180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30" idx="3"/>
            <a:endCxn id="132" idx="2"/>
          </p:cNvCxnSpPr>
          <p:nvPr/>
        </p:nvCxnSpPr>
        <p:spPr>
          <a:xfrm flipV="1">
            <a:off x="3419640" y="4652640"/>
            <a:ext cx="1729440" cy="7927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564000" y="39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2924280"/>
            <a:ext cx="1512720" cy="1368360"/>
          </a:xfrm>
          <a:prstGeom prst="rect">
            <a:avLst/>
          </a:prstGeom>
          <a:solidFill>
            <a:srgbClr val="bbe0e3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 б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ерв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357720"/>
            <a:ext cx="1081080" cy="647640"/>
          </a:xfrm>
          <a:prstGeom prst="leftRightArrow">
            <a:avLst>
              <a:gd name="adj1" fmla="val 50000"/>
              <a:gd name="adj2" fmla="val 33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стоинства трехуровневой архитектуры клиент-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рузка сервера от выполнения части операций, перенесен­ных на сервер прило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ение размера клиентских приложений за счет разгрузки их от лишнего к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иное поведение всех кли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ощение настройки клиентов – при изменении общего кода сервера приложений автоматически изменяется поведение приложений кли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баз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зависимости от взаимного расположения можно выдел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кальные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аленные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выполнения операций с локальными БД используются локальные приложения, для операций с удаленными БД – клиент-серверные при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прилож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ложения, использующие локальные базы данных, называют одноуровневыми, поскольку приложение и базы данных образуют единую файловую 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ложения, использующие удаленные базы данных делятся на двухуровневые и многоуровн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уровневые кроме клиентской и серверной частей имеют дополнительны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альная БД в однопользовательском режи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060640"/>
            <a:ext cx="2663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060640"/>
            <a:ext cx="302436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708280"/>
            <a:ext cx="1297080" cy="433440"/>
          </a:xfrm>
          <a:prstGeom prst="leftRightArrow">
            <a:avLst>
              <a:gd name="adj1" fmla="val 50000"/>
              <a:gd name="adj2" fmla="val 595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300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4508640"/>
            <a:ext cx="266400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3933720"/>
            <a:ext cx="431640" cy="503280"/>
          </a:xfrm>
          <a:prstGeom prst="upDownArrow">
            <a:avLst>
              <a:gd name="adj1" fmla="val 50000"/>
              <a:gd name="adj2" fmla="val 232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кальная БД в однопользовательском режиме с использованием технолог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DE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orland Database 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цессор баз данных фирмы Borland. BDE представляет собой совокупность динамических библиотек и драйверов, обеспечивающих доступ к дан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4005360"/>
            <a:ext cx="158436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4005360"/>
            <a:ext cx="1584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005360"/>
            <a:ext cx="201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496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551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4149720"/>
            <a:ext cx="1079640" cy="287280"/>
          </a:xfrm>
          <a:prstGeom prst="leftRightArrow">
            <a:avLst>
              <a:gd name="adj1" fmla="val 50000"/>
              <a:gd name="adj2" fmla="val 74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221000"/>
            <a:ext cx="865080" cy="287640"/>
          </a:xfrm>
          <a:prstGeom prst="leftRightArrow">
            <a:avLst>
              <a:gd name="adj1" fmla="val 50000"/>
              <a:gd name="adj2" fmla="val 59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кальные баз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тектура файл-сер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141720"/>
            <a:ext cx="2087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3357720"/>
            <a:ext cx="14414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4149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905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вер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916280"/>
            <a:ext cx="3529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1989000"/>
            <a:ext cx="1655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3645000"/>
            <a:ext cx="3529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716280"/>
            <a:ext cx="1655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060640"/>
            <a:ext cx="93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716280"/>
            <a:ext cx="64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20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9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4940280"/>
            <a:ext cx="3529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ьютер 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4720" y="5013360"/>
            <a:ext cx="1655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013360"/>
            <a:ext cx="64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686680" y="5169960"/>
            <a:ext cx="819360" cy="4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2" idx="3"/>
            <a:endCxn id="68" idx="1"/>
          </p:cNvCxnSpPr>
          <p:nvPr/>
        </p:nvCxnSpPr>
        <p:spPr>
          <a:xfrm>
            <a:off x="4500720" y="2421000"/>
            <a:ext cx="1800720" cy="1513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4500720" y="429264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27640" y="4581360"/>
            <a:ext cx="180000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стоинства архитектур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йл-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та ре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ожение Базы данных фактически разрабатывается в расчете на одного пользователя и не зависит от компьютера сети на который оно устанавл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достатки архитектур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йл-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ьзователь работает со своей локальной копией БД, данные в которой обновляются при каждом запросе к какой-либо из таблиц. При этом с сервера пересылается новая копия всей таблицы, данные которой затребованы. Таким образом, если пользователю необходимо несколько записей таблицы, с сервера по сети пересылается вся таблица. В результате циркуляции в сети больших объемов избыточной информаци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резко возрастает нагрузка на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язи с тем, что на каждом компьютере имеется своя копия БД, изменения, сделанные в ней одним пользователем, в течении некоторого времени являются неизвестными другим пользователям. В связи с этим необходимо постоянное обновление БД. Кроме того, возникае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еобходимость синхрониз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боты отдельных пользователей, связанная с блокировкой в таблицах записей, которые редактирует другой пользов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авление БД осуществляется с разных компьютеров, поэтому в значительной степени затрудне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организация контро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соблюдения конфиденциальности и поддержания целостности Б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20:06:50Z</dcterms:created>
  <dc:creator>tanya</dc:creator>
  <dc:description/>
  <dc:language>en-US</dc:language>
  <cp:lastModifiedBy>tanya</cp:lastModifiedBy>
  <dcterms:modified xsi:type="dcterms:W3CDTF">2008-09-19T22:07:02Z</dcterms:modified>
  <cp:revision>20</cp:revision>
  <dc:subject/>
  <dc:title>Лекция №5 Архитектура Баз Данных </dc:title>
</cp:coreProperties>
</file>